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07100-F7C4-42D8-A958-E40B8A35E5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35C7F-E545-4E7D-8C81-754661EE6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9FC3F37-4CB5-4CBE-A9DF-9D81BC35F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F32B902-B801-442B-9C62-3532A1013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EC113D-FD32-47C7-B9BF-5D66178E9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F041DE7-368C-43A2-BBE2-9A4F4CC4E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7F1BBE-55C1-45A4-9E05-275CE0579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DCA12AF-7F24-4452-A007-44A71200B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C1C2E0-E661-494C-9B89-665B06FDA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EF9083E-DCBE-4CA3-8182-A69EDE12C0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8CC91FD-F1C3-4058-A467-04EBAF7B12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6D55CB3-1578-47DD-B3D4-14A8D22400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5F158-1D81-44FA-B64F-1E0301BB9E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CC29D5A-65E4-4B80-8806-9389A71F1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AEB575E-FA24-47E6-A2A4-99AD3C4DC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70AB952-F93F-4D98-907E-B242AF550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C63D1B2-334B-41C8-B9B8-7B80BBAEA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1BE1CCF-903C-4D10-96AB-76EAA1E13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57036D2-2924-4FE3-BA57-B6E4B4B7D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90F8855-F2BA-442E-9360-EB5DEE04B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DF18D6F-127A-492A-8187-350EE4DE9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DA7AAA9-0C87-4D8C-8139-2DA26D6D6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AD8E7EF-4CE5-447D-9C11-8B93AB0229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FDE42-1D35-45C6-940D-5426293FF7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F6E9F1C-F3C1-415F-8CF1-66C890A031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2F2103-EDC1-454D-BC41-81204BC9CE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9A987D-F74C-46DF-B5DB-B5F0F52A1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A39BF0-C60A-499B-BC5A-858E7D6A6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79D707-D6CD-4D08-A133-A2394B340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AA6038-0BC9-4D71-8879-AB1B3C597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51A0D0-745F-45BC-A4F9-EE884B3D0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46731A-509C-497C-BCB9-699CB38F1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52F05F-1F86-4A88-8DA1-704F59058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0328F8-44F4-4A3D-AACA-3A9291C6E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415AC-A37D-40E6-9693-7E1CBE86EC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84EC3E-C3DA-4EB8-8C5C-343E20DED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EE8513-CC89-423A-8AA6-89568D0F4D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17FF15-7577-4A32-AA82-A69F1C7B2C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38CC8DC-79E0-47B3-888B-824C80D975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F7CC416-68C1-4AEF-9640-5EB23F3C8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9BC44B5-E437-4CC7-A822-4470AE6F6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32405FF-046B-4C6B-A4FF-13EFF68AA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4BAFDFA-D206-437F-A9C6-DF04896CD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577851F-953A-487B-839E-5D4E999E3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1554FC2-FB44-462E-A4B9-8FAAF02B5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B279F-1B35-4EBC-A144-7F0E226AE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3955320-7770-4A21-AEAC-A28B6EFDD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EF36F31-3D4C-4B17-BB62-475C24E84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75AB6F2-923B-4993-8D45-28DA1B550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4B5D2C0-E26C-4710-83B6-33C76B91FC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649AF42-C3D0-479F-B994-4B45C3D4E8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59072-C3C3-4E46-B72F-BD1198FBB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54BF6-DD39-4544-B05F-655180C56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747F1-6BCD-45F6-9346-D046B8D98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CA996-4D9A-4818-AE5D-0E6E9CEE9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B6E78-69D5-4C95-BBE7-E953CCDAE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60325-084A-4160-BF2C-6187B9660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B0D17-E9F7-4E18-AE41-FC9104D2B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91A9C-BB85-48D1-986E-2A86639D2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C3F70-D13B-4F7E-85E1-B9D1321CF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C525C-3DC8-41A2-B4E8-0D73B73472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90464-B26E-47F8-8813-7FC7A5FC95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4B3141-9073-48D4-B360-5C43F10C92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915FEF-E426-45F9-B117-D9F7D3CD5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0033CE-03F3-4D7D-A027-8572E0440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97C1B0-0BB9-4787-8848-887EB5984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51D0D6-F25E-4B5A-9E8A-56494B330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5CDD5-8980-48F1-A0CA-A96FA95D0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3B6471-0DF6-4981-93C1-F7A360A77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C21DCB-15C2-46A0-9145-4C6EB30F2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7ED3F8-C53B-4703-8387-01EA6A0B2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967730-640C-4B20-BEE2-CBEAE8DB3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2DD872-EF1F-4FF8-BFF7-335744C36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BECF99-E99E-4C6D-838D-E4A33B2E1B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21D19D-5543-4341-9312-B0615A09EF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10BBA0-D9E5-4982-91CD-8E66A9EDD4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805796-87F8-4FBE-8A8F-1AFE3BBC6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540F0B-0CC3-4E62-8089-F4E1BF4CA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CA45D-425B-4D97-98F3-AB6D968B8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C46B57-D79A-4219-9798-165462773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5A1855-137A-4EBB-9003-1E2BD2433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0687BB-4254-4791-8D8E-9A6566750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B1CD62-514A-4A8B-8E84-2545A227B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36AFD6-4B26-4760-8549-3A8497C4D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6667D6-25BD-41C3-A9B8-13D4A30F1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F0CBDF-4851-4959-8AC0-DF8555A94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CC7F5C-DC96-4EAA-96A1-DBE202618F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9A3296-1625-4BAF-B874-609CF843F1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4140CC-DBB8-4D7B-9A30-33921FB35F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1F0E2-C390-4FB1-8EFE-76385305B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D93506-8FF7-4013-938E-233BD5ACF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662619-FF4E-41BA-864D-18B91BB90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ADDAD7-F5FB-41CE-A541-6B8CB4409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9816C0-1176-4DE8-817E-BCE8E4A86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128833-A9AF-47C0-B5F1-7436F741A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DF425C-5296-4F1E-A0A0-26AEF6D1A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E2963C-E7B9-49F5-BF8F-6D8F0870C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4ED496-6821-4181-81D4-D44F990A8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AEBDD7-3CDE-4B8C-862C-1F740C281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F1E183-DB3C-4AF5-AA96-AD08CD538D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A4C94-5C33-4887-AD5C-5163AFE1D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CB91DF-8C58-41F4-AAC5-7665F54D12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C33DAF-DC18-4324-8E87-08B76810C3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301272-CD72-4748-9E51-61B53229B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DB637C-6D53-4322-9F7E-5814ED54E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A30A06-C429-457B-9009-B8C21EDB4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A41F74-9B02-4392-8A2D-0FBE1A037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1C2203-9BDA-4292-BACE-0A33A2D7B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F3A0AA-F2F9-4E52-9354-4CCEAF63C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8F0645-7915-40F3-B4EB-3E2F2555B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036CB6-864F-4741-8DC0-7147E49C5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27C38-E8B5-455C-AB4E-6C3BA4756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CB48E6-29AE-4923-9EA1-2787923DB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2514F7-E7B8-415A-9F16-0BFBD065E8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355181-6A9B-41CF-8D1C-457F463931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BB7E57-2C07-4810-922F-309913065A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A8B58A-F2A8-4DEC-B4E7-BCF26185C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C85FBB-8736-4DE1-A174-4C0BDBA41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31BB12-9A64-49FD-916B-B6E838584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84FDC7-0119-4B76-8A9E-2BAD33CA3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9E143B-9A04-43B7-8FD7-4A77C10A3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B14B4B-BE4E-40E9-B3A8-4CDFF7B56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D94F3-299C-4417-925E-A1AFDAA28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14ECDE-7C43-43D8-9ED3-92415858F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868041-7D06-4B0F-8824-35FB830AF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D7C76B-F49D-4390-BF84-58C628E08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537556-9158-401B-AAAF-B97E3513CD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7325EB-5E32-4FAA-A813-3A02D70755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57E142-E512-4E6F-B0F5-DE2BB98080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D94094-7395-4978-BB54-31F7DD2A6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5A2F5C-DB39-434D-AE69-9D25C8778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DAE8FD-7A11-4C92-8D77-0F0CC4502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B1FC2C-916F-43C3-B95A-709BBE161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22EE6-D678-4506-9649-6E7DE6ED5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6AC81D-5DE1-4794-876D-3939C1CF4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608480-8847-4E50-86A2-D5459F968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A93666-AD94-43BA-B90C-F4139B9F1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330F51-9D71-4B19-ABC2-7EAE643B1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11EFCA-D1C3-41E6-8042-215372C2C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338BBD-B3E1-4AE8-8E09-0D8B9C07C0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E95B68-A7BA-4DCC-85CC-EC5B71D6EE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13993D-003B-4B52-9269-C3AE51A95E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A3FD99-EB31-48BF-9337-3D9B124B7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79BCC71-4580-49AF-BFCC-2F961DCC2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423C0-2D61-4FFA-A38A-2C243B275149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2D550-DFDA-492B-A611-AE43F2834379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05FB0-991F-4354-BEB7-56DC27345B2F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DC9D0-6013-42E9-9932-949D37695237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81706-C2F3-494A-AC25-45DB9AB96E6C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7E881-160B-47DC-BAE1-B4E232844B1C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4EE7B-2984-43DD-9720-90D086A68782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F7E38-3D2F-450D-BA7D-99FDBC1E1FA9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D6416-68F2-4BA9-9EBF-06D1A1A45D37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EAC2F-85E9-46D3-A31D-CA59D2793659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BAA42-B68B-4C58-8D26-C85BA95A6035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2A799-6954-4474-8B3E-23E9A2C85ECF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112 V náruči Ježišovej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 náruči Ježišovej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ja svoju spásu mám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lásky on dôkaz dal mi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keď za mňa zomrel sám.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 náruči Ježišovej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ždy odpočívam rád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na srdci jeho svätom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smiem blaho prežívať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On pokoj svoj mi dáva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len naň sa spolieham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s láskou sa ku mne skláňa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 ňom v tiesni skrýšu má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 náruči Ježišovej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ždy odpočívam rád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na srdci jeho svätom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smiem blaho prežívať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 náruči Ježišovej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býva mi najlepšie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on bolesť každú stíši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zahojiť rany vi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Pred pokušením chráni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s ním mizne pochybnosť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k víťazstvu nad zlom dáva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silu a zmužilosť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 náruči Ježišovej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býva mi najlepšie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on bolesť každú stíši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zahojiť rany vi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 náruči Ježišovej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ja svoju spásu mám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lásky on dôkaz dal mi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keď za mňa zomrel sá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Chce dať mi život večný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raz budem bývať s ním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keď hriechu noc sa skončí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tvár jeho uvidí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DUMAS Ing. Dušan Bielik</cp:lastModifiedBy>
  <dcterms:modified xsi:type="dcterms:W3CDTF">2025-02-18T16:27:50Z</dcterms:modified>
  <cp:revision>22</cp:revision>
  <dc:subject/>
  <dc:title>Je veľký náš Pán, on slávy je Kráľ Nech do všetkých strán  spev vrúcnych znie chvál.</dc:title>
</cp:coreProperties>
</file>